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BB1-EFA1-4B14-A885-C49459F9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0AF-DC85-4343-9767-A5D72EFA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35B-9EF5-4449-8AAA-9031D9CE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44F-7B85-4043-8051-F73AF837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6311E-0B81-42A7-A44A-104F1743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D9AC8-2152-46F1-8F47-68B642B0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174AB-462A-4562-B0D6-C0628282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F8017-3E0E-4028-B32C-6C8B692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808D-EA5C-4CEF-B955-5D05704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1FBC0-6577-4CA1-95D2-B1F3AFA5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5DABB-970E-4EBA-A0E5-9C14527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60E-DBE0-4049-82C1-163A789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D4522-0022-4F70-A18A-C6AABE9B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4672-6DE5-4583-82FB-5B8D6A3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4F934-5AFA-4FC4-AF47-11EA54E1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04E55-B46B-4FC3-97AF-8977AD81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B6F1-32F1-4D78-8F45-D063187E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2A8-50C6-422C-A783-5EE4A1F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3FA-6235-4FC4-9B48-AE9DB42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A56-28D4-4391-AD35-6D73E46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E39-6625-49C2-8274-00F90794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DE3-17FC-4DF0-B175-2F6C090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B6D-393D-4563-9D29-0303E017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341-28CB-48C1-984C-F0E3AA2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5FA6-4B2D-462F-A780-D78BF8D92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556-FDC3-4389-807A-AF3D2B2A5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8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e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142092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91120" y="4191120"/>
            <a:ext cx="761760" cy="188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1816200" cy="1670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705720" y="4114800"/>
            <a:ext cx="1785960" cy="181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205740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2193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big U.F.O on the moon.     And a giant Alien came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5187960"/>
            <a:ext cx="1815840" cy="167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3600" y="4973760"/>
            <a:ext cx="762120" cy="1884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142056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941400" cy="70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9051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34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slimy and green. It had bone crushing teeth. The Alien floated away to the sun. And 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3:08Z</dcterms:created>
  <dc:creator>student</dc:creator>
  <dc:description/>
  <dc:language>en-US</dc:language>
  <cp:lastModifiedBy>student</cp:lastModifiedBy>
  <dcterms:modified xsi:type="dcterms:W3CDTF">2010-10-25T18:18:00Z</dcterms:modified>
  <cp:revision>10</cp:revision>
  <dc:subject/>
  <dc:title>Alex</dc:title>
</cp:coreProperties>
</file>